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20232"/>
        <c:axId val="55864251"/>
      </c:barChart>
      <c:catAx>
        <c:axId val="22520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64251"/>
        <c:crosses val="autoZero"/>
        <c:auto val="1"/>
        <c:lblAlgn val="ctr"/>
        <c:lblOffset val="100"/>
        <c:noMultiLvlLbl val="0"/>
      </c:catAx>
      <c:valAx>
        <c:axId val="55864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20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BCC-CB3A-448F-B5BF-0E1B28D2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791-BB05-4169-994A-9E6808B3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884-134F-4151-BA6C-050AAA60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62B-10F3-48C5-A06E-64C74D1A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3EB-69B3-4FDE-9D0A-A23DC046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E36-B048-40DC-8ED3-5B656381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DED-310E-4974-B028-D02DB949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182-8A06-4F88-A5A5-FAB47315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416-6051-4822-93E0-CFF31C34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B3C-2954-499A-8354-702F6111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64E-FE55-4349-8436-2FDD110E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60C-45B6-4E47-9265-448D571E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CA510-D7A4-4EF2-8C92-95C2909CC2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