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10762"/>
        <c:axId val="38705563"/>
      </c:barChart>
      <c:catAx>
        <c:axId val="410107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05563"/>
        <c:crosses val="autoZero"/>
        <c:auto val="1"/>
        <c:lblAlgn val="ctr"/>
        <c:lblOffset val="100"/>
        <c:noMultiLvlLbl val="0"/>
      </c:catAx>
      <c:valAx>
        <c:axId val="387055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107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20C0-432A-4FD9-AD06-5AEFFE2F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49DB-DF54-423D-9221-9898E825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8535-2BFA-4C54-BA64-D67FAE3A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A8BC-CC19-43EF-BAA7-A95E5DA2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F600-3D73-4992-B6B0-226C212F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B491-78F7-4D12-8254-0598BD03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A250-A54F-4CEA-999F-249AE79D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8D63-D6E8-4DFB-99DA-548D55D8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E19-753D-4F5A-8CB1-8863B5A8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3BA-21B2-4AA4-9098-FA47A57B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21FE-E69A-4A96-B522-ECF4B5E3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AB01-289B-4985-8096-6644509E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741CE-020E-401A-B39E-73A70DEEEF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